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38480" cy="37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909D-8AC1-4D89-B446-AF8CACEF2C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96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F76-30F9-417A-B0B3-890A15EB8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DD1-3814-4495-8CF9-57E062A0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76D-C7A7-455D-90F7-A192ADA7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7F0-C6FE-4543-8120-C94BD4E1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F8D-981D-49AA-8898-D652E8E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EC6-0797-4700-9CCF-C9701BD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2BA-6E1A-4C01-B51E-B1C81352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602-EFEB-4712-9DF4-D1F730A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817-BA5C-4216-9509-0BEEEF2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014-6637-4EE3-A7A7-86BFCB0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BCC-B1CA-4A43-8397-A468AEF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AF6-5AF5-4A32-AFBF-F762A693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CE1-F395-4899-AF23-8DE99C6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D92B-E956-442A-AABA-0E23C46356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258920" y="4292640"/>
            <a:ext cx="756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ы помогаем обрести желанное простра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счастливой жизни, отдыха и общения с близ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Z:\Лена\фирменный стиль\Logotyp\Logo_IAU.jpg"/>
          <p:cNvPicPr/>
          <p:nvPr/>
        </p:nvPicPr>
        <p:blipFill>
          <a:blip r:embed="rId2"/>
          <a:stretch/>
        </p:blipFill>
        <p:spPr>
          <a:xfrm>
            <a:off x="1258920" y="2637000"/>
            <a:ext cx="22334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1640" y="262800"/>
            <a:ext cx="280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ГРАФИК ИЗМЕНЕНИЯ КЛЮЧЕВОЙ СТАВКИ Ц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Диаграмма 4" descr=""/>
          <p:cNvPicPr/>
          <p:nvPr/>
        </p:nvPicPr>
        <p:blipFill>
          <a:blip r:embed="rId2"/>
          <a:stretch/>
        </p:blipFill>
        <p:spPr>
          <a:xfrm>
            <a:off x="426960" y="1841400"/>
            <a:ext cx="5261040" cy="42544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 rot="20251200">
            <a:off x="7725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13.09.13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 rot="20251200">
            <a:off x="1307520" y="494460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3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3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 rot="20251200">
            <a:off x="1773000" y="495936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2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5.04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 rot="20251200">
            <a:off x="23079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25.07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 rot="20251200">
            <a:off x="2841840" y="494460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5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1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 rot="20251200">
            <a:off x="330804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2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2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 rot="20251200">
            <a:off x="384300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6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2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 rot="20251200">
            <a:off x="43779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30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1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5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 rot="20251200">
            <a:off x="491292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6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3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5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9E4-9850-4DD5-9603-FC29FBD9D24A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8"/>
          <p:cNvSpPr/>
          <p:nvPr/>
        </p:nvSpPr>
        <p:spPr>
          <a:xfrm flipV="1">
            <a:off x="5759280" y="1951560"/>
            <a:ext cx="2975040" cy="4032360"/>
          </a:xfrm>
          <a:custGeom>
            <a:avLst/>
            <a:gdLst/>
            <a:ahLst/>
            <a:rect l="l" t="t" r="r" b="b"/>
            <a:pathLst>
              <a:path w="2799145" h="4572558">
                <a:moveTo>
                  <a:pt x="350873" y="172530"/>
                </a:moveTo>
                <a:cubicBezTo>
                  <a:pt x="350873" y="126772"/>
                  <a:pt x="369050" y="82889"/>
                  <a:pt x="401406" y="50533"/>
                </a:cubicBezTo>
                <a:cubicBezTo>
                  <a:pt x="433762" y="18177"/>
                  <a:pt x="477645" y="0"/>
                  <a:pt x="523403" y="0"/>
                </a:cubicBezTo>
                <a:lnTo>
                  <a:pt x="2626615" y="0"/>
                </a:lnTo>
                <a:cubicBezTo>
                  <a:pt x="2672373" y="0"/>
                  <a:pt x="2716256" y="18177"/>
                  <a:pt x="2748612" y="50533"/>
                </a:cubicBezTo>
                <a:cubicBezTo>
                  <a:pt x="2780968" y="82889"/>
                  <a:pt x="2799145" y="126772"/>
                  <a:pt x="2799145" y="172530"/>
                </a:cubicBezTo>
                <a:lnTo>
                  <a:pt x="2799145" y="4400028"/>
                </a:lnTo>
                <a:cubicBezTo>
                  <a:pt x="2799145" y="4445786"/>
                  <a:pt x="2780968" y="4489670"/>
                  <a:pt x="2748612" y="4522025"/>
                </a:cubicBezTo>
                <a:cubicBezTo>
                  <a:pt x="2716256" y="4554381"/>
                  <a:pt x="2672373" y="4572558"/>
                  <a:pt x="2626615" y="4572558"/>
                </a:cubicBezTo>
                <a:lnTo>
                  <a:pt x="523403" y="4572558"/>
                </a:lnTo>
                <a:cubicBezTo>
                  <a:pt x="477645" y="4572558"/>
                  <a:pt x="433761" y="4554381"/>
                  <a:pt x="401406" y="4522025"/>
                </a:cubicBezTo>
                <a:cubicBezTo>
                  <a:pt x="369050" y="4489669"/>
                  <a:pt x="358862" y="4475592"/>
                  <a:pt x="350873" y="4400028"/>
                </a:cubicBezTo>
                <a:cubicBezTo>
                  <a:pt x="351739" y="4289565"/>
                  <a:pt x="352606" y="4179103"/>
                  <a:pt x="353472" y="4068640"/>
                </a:cubicBezTo>
                <a:cubicBezTo>
                  <a:pt x="349803" y="4057109"/>
                  <a:pt x="16994" y="4059769"/>
                  <a:pt x="0" y="4061585"/>
                </a:cubicBezTo>
                <a:cubicBezTo>
                  <a:pt x="2563" y="4044153"/>
                  <a:pt x="343109" y="3631282"/>
                  <a:pt x="351802" y="3616478"/>
                </a:cubicBezTo>
                <a:cubicBezTo>
                  <a:pt x="351492" y="2449428"/>
                  <a:pt x="351183" y="1339580"/>
                  <a:pt x="350873" y="172530"/>
                </a:cubicBez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6408720" y="2255760"/>
            <a:ext cx="208764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 марта 2015 г. Правительство РФ приняло решение о предоставлении субсидий из федерального бюджета российским банкам, на возмещение недополученных доходов по выданным ипотечным кредитам. В результате банки снизили процентную ставку по ипотек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настоящий момент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бербанк – от 11,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Ханты-Мансийский банк Открытие – от 11,5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ТБ 24 – от 12%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3"/>
          <p:cNvSpPr/>
          <p:nvPr/>
        </p:nvSpPr>
        <p:spPr>
          <a:xfrm>
            <a:off x="1222200" y="3538440"/>
            <a:ext cx="55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6</a:t>
            </a:r>
            <a:r>
              <a:rPr b="1" lang="ru-RU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8"/>
          <p:cNvSpPr/>
          <p:nvPr/>
        </p:nvSpPr>
        <p:spPr>
          <a:xfrm>
            <a:off x="1258920" y="4870440"/>
            <a:ext cx="3610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АО «Ханты-Мансийский банк Откры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Западно-Сибирский банк «Сбер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«Запсибком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ЗАО «Сургутнефтегаз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анк «Уралсиб-Нижневартовс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«Рос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2"/>
          <p:cNvSpPr/>
          <p:nvPr/>
        </p:nvSpPr>
        <p:spPr>
          <a:xfrm>
            <a:off x="4861080" y="353844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1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2</a:t>
            </a:r>
            <a:r>
              <a:rPr b="1" lang="ru-RU" sz="3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797440" y="3614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объема выданных ипотечных креди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 Югре по данным ЦБ РФ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5253120" y="1860480"/>
            <a:ext cx="19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2 0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18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ред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1"/>
          <p:cNvSpPr/>
          <p:nvPr/>
        </p:nvSpPr>
        <p:spPr>
          <a:xfrm>
            <a:off x="5349960" y="2417760"/>
            <a:ext cx="166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4,4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31640" y="441360"/>
            <a:ext cx="45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</a:rPr>
              <a:t>ПОДБОР ИПОТЕЧНОГО КРЕ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1604880" y="1860480"/>
            <a:ext cx="230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912</a:t>
            </a: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ед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8"/>
          <p:cNvSpPr/>
          <p:nvPr/>
        </p:nvSpPr>
        <p:spPr>
          <a:xfrm>
            <a:off x="1756080" y="2489040"/>
            <a:ext cx="166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2,4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258920" y="4510080"/>
            <a:ext cx="741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Заключены соглашения со следующими банками</a:t>
            </a:r>
            <a:r>
              <a:rPr b="1" lang="en-US" sz="1400" spc="-1" strike="noStrike">
                <a:solidFill>
                  <a:srgbClr val="000000"/>
                </a:solidFill>
                <a:latin typeface="Arial 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(по состоянию на 31.12.2014 г.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965240" y="3614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объема выданных ипотечных креди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 Югре по данным ЦБ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4859280" y="6202440"/>
            <a:ext cx="3722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*Объем выдачи на 2014 год равен 35,910 млрд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8"/>
          <p:cNvSpPr/>
          <p:nvPr/>
        </p:nvSpPr>
        <p:spPr>
          <a:xfrm>
            <a:off x="1301400" y="137808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5009760" y="137808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35"/>
          <p:cNvSpPr/>
          <p:nvPr/>
        </p:nvSpPr>
        <p:spPr>
          <a:xfrm flipH="1">
            <a:off x="4858920" y="6148440"/>
            <a:ext cx="3721320" cy="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36"/>
          <p:cNvSpPr/>
          <p:nvPr/>
        </p:nvSpPr>
        <p:spPr>
          <a:xfrm>
            <a:off x="1258920" y="1701720"/>
            <a:ext cx="2521080" cy="1800360"/>
          </a:xfrm>
          <a:custGeom>
            <a:avLst/>
            <a:gdLst/>
            <a:ahLst/>
            <a:rect l="l" t="t" r="r" b="b"/>
            <a:pathLst>
              <a:path w="2520280" h="2052228">
                <a:moveTo>
                  <a:pt x="0" y="161046"/>
                </a:moveTo>
                <a:cubicBezTo>
                  <a:pt x="0" y="118334"/>
                  <a:pt x="16967" y="77371"/>
                  <a:pt x="47169" y="47169"/>
                </a:cubicBezTo>
                <a:cubicBezTo>
                  <a:pt x="77371" y="16967"/>
                  <a:pt x="118334" y="0"/>
                  <a:pt x="161046" y="0"/>
                </a:cubicBezTo>
                <a:lnTo>
                  <a:pt x="2359234" y="0"/>
                </a:lnTo>
                <a:cubicBezTo>
                  <a:pt x="2401946" y="0"/>
                  <a:pt x="2442909" y="16967"/>
                  <a:pt x="2473111" y="47169"/>
                </a:cubicBezTo>
                <a:cubicBezTo>
                  <a:pt x="2503313" y="77371"/>
                  <a:pt x="2520280" y="118334"/>
                  <a:pt x="2520280" y="161046"/>
                </a:cubicBezTo>
                <a:lnTo>
                  <a:pt x="2520280" y="1639154"/>
                </a:lnTo>
                <a:cubicBezTo>
                  <a:pt x="2520280" y="1681866"/>
                  <a:pt x="2503313" y="1722829"/>
                  <a:pt x="2473111" y="1753031"/>
                </a:cubicBezTo>
                <a:cubicBezTo>
                  <a:pt x="2442909" y="1783233"/>
                  <a:pt x="2381498" y="1796788"/>
                  <a:pt x="2359234" y="1800200"/>
                </a:cubicBezTo>
                <a:lnTo>
                  <a:pt x="1424474" y="1799741"/>
                </a:lnTo>
                <a:lnTo>
                  <a:pt x="1260141" y="2052228"/>
                </a:lnTo>
                <a:lnTo>
                  <a:pt x="1109921" y="1799741"/>
                </a:lnTo>
                <a:lnTo>
                  <a:pt x="161046" y="1800200"/>
                </a:lnTo>
                <a:cubicBezTo>
                  <a:pt x="118334" y="1800200"/>
                  <a:pt x="77371" y="1783233"/>
                  <a:pt x="47169" y="1753031"/>
                </a:cubicBezTo>
                <a:cubicBezTo>
                  <a:pt x="16967" y="1722829"/>
                  <a:pt x="0" y="1681866"/>
                  <a:pt x="0" y="1639154"/>
                </a:cubicBezTo>
                <a:lnTo>
                  <a:pt x="0" y="161046"/>
                </a:lnTo>
                <a:close/>
              </a:path>
            </a:pathLst>
          </a:cu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олилиния 37"/>
          <p:cNvSpPr/>
          <p:nvPr/>
        </p:nvSpPr>
        <p:spPr>
          <a:xfrm>
            <a:off x="4967280" y="1701720"/>
            <a:ext cx="2521080" cy="1800360"/>
          </a:xfrm>
          <a:custGeom>
            <a:avLst/>
            <a:gdLst/>
            <a:ahLst/>
            <a:rect l="l" t="t" r="r" b="b"/>
            <a:pathLst>
              <a:path w="2520280" h="2052228">
                <a:moveTo>
                  <a:pt x="0" y="161046"/>
                </a:moveTo>
                <a:cubicBezTo>
                  <a:pt x="0" y="118334"/>
                  <a:pt x="16967" y="77371"/>
                  <a:pt x="47169" y="47169"/>
                </a:cubicBezTo>
                <a:cubicBezTo>
                  <a:pt x="77371" y="16967"/>
                  <a:pt x="118334" y="0"/>
                  <a:pt x="161046" y="0"/>
                </a:cubicBezTo>
                <a:lnTo>
                  <a:pt x="2359234" y="0"/>
                </a:lnTo>
                <a:cubicBezTo>
                  <a:pt x="2401946" y="0"/>
                  <a:pt x="2442909" y="16967"/>
                  <a:pt x="2473111" y="47169"/>
                </a:cubicBezTo>
                <a:cubicBezTo>
                  <a:pt x="2503313" y="77371"/>
                  <a:pt x="2520280" y="118334"/>
                  <a:pt x="2520280" y="161046"/>
                </a:cubicBezTo>
                <a:lnTo>
                  <a:pt x="2520280" y="1639154"/>
                </a:lnTo>
                <a:cubicBezTo>
                  <a:pt x="2520280" y="1681866"/>
                  <a:pt x="2503313" y="1722829"/>
                  <a:pt x="2473111" y="1753031"/>
                </a:cubicBezTo>
                <a:cubicBezTo>
                  <a:pt x="2442909" y="1783233"/>
                  <a:pt x="2381498" y="1796788"/>
                  <a:pt x="2359234" y="1800200"/>
                </a:cubicBezTo>
                <a:lnTo>
                  <a:pt x="1424474" y="1799741"/>
                </a:lnTo>
                <a:lnTo>
                  <a:pt x="1260141" y="2052228"/>
                </a:lnTo>
                <a:lnTo>
                  <a:pt x="1109921" y="1799741"/>
                </a:lnTo>
                <a:lnTo>
                  <a:pt x="161046" y="1800200"/>
                </a:lnTo>
                <a:cubicBezTo>
                  <a:pt x="118334" y="1800200"/>
                  <a:pt x="77371" y="1783233"/>
                  <a:pt x="47169" y="1753031"/>
                </a:cubicBezTo>
                <a:cubicBezTo>
                  <a:pt x="16967" y="1722829"/>
                  <a:pt x="0" y="1681866"/>
                  <a:pt x="0" y="1639154"/>
                </a:cubicBezTo>
                <a:lnTo>
                  <a:pt x="0" y="161046"/>
                </a:lnTo>
                <a:close/>
              </a:path>
            </a:pathLst>
          </a:cu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B90E-9604-43AB-A96A-7E3F48098E02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Диаграмма 16" descr=""/>
          <p:cNvPicPr/>
          <p:nvPr/>
        </p:nvPicPr>
        <p:blipFill>
          <a:blip r:embed="rId2"/>
          <a:stretch/>
        </p:blipFill>
        <p:spPr>
          <a:xfrm>
            <a:off x="969840" y="3754440"/>
            <a:ext cx="3316320" cy="28051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2197080" y="3139920"/>
            <a:ext cx="1943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индустриального ввода жилья в Юг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797440" y="3139920"/>
            <a:ext cx="201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индустриального ввода  жилья в Юг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31640" y="441360"/>
            <a:ext cx="69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</a:rPr>
              <a:t>ПРОДАЖА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1257480" y="2960640"/>
            <a:ext cx="97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0,7</a:t>
            </a:r>
            <a:r>
              <a:rPr b="1" lang="ru-RU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2"/>
          <p:cNvSpPr/>
          <p:nvPr/>
        </p:nvSpPr>
        <p:spPr>
          <a:xfrm>
            <a:off x="4861080" y="296064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6,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5</a:t>
            </a:r>
            <a:r>
              <a:rPr b="1" lang="ru-RU" sz="3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8"/>
          <p:cNvSpPr/>
          <p:nvPr/>
        </p:nvSpPr>
        <p:spPr>
          <a:xfrm>
            <a:off x="1265760" y="133992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8"/>
          <p:cNvSpPr/>
          <p:nvPr/>
        </p:nvSpPr>
        <p:spPr>
          <a:xfrm>
            <a:off x="4830480" y="133992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604880" y="2120760"/>
            <a:ext cx="1816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5 808,06</a:t>
            </a: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в.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143680" y="2120760"/>
            <a:ext cx="1589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57 70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0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в.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4248000" y="6272280"/>
            <a:ext cx="4397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*в том числе собственные квартир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 flipH="1">
            <a:off x="5616360" y="6218280"/>
            <a:ext cx="3028680" cy="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268280" y="3828960"/>
            <a:ext cx="704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Доля проданного жилья в разрезе компаний-застройщиков, 201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103640" y="4400640"/>
          <a:ext cx="2268720" cy="1476360"/>
        </p:xfrm>
        <a:graphic>
          <a:graphicData uri="http://schemas.openxmlformats.org/drawingml/2006/table">
            <a:tbl>
              <a:tblPr/>
              <a:tblGrid>
                <a:gridCol w="2268720"/>
              </a:tblGrid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Группа компаний «СС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Квартиры Агентства (выкуплен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у группы компаний  «Сибпромстр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ФРЖС «Жилище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ОО Кварта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стальные застройщ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Прямоугольник 35"/>
          <p:cNvSpPr/>
          <p:nvPr/>
        </p:nvSpPr>
        <p:spPr>
          <a:xfrm>
            <a:off x="3887640" y="4508640"/>
            <a:ext cx="108000" cy="10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6"/>
          <p:cNvSpPr/>
          <p:nvPr/>
        </p:nvSpPr>
        <p:spPr>
          <a:xfrm>
            <a:off x="3887640" y="4724280"/>
            <a:ext cx="108000" cy="1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7"/>
          <p:cNvSpPr/>
          <p:nvPr/>
        </p:nvSpPr>
        <p:spPr>
          <a:xfrm>
            <a:off x="3887640" y="5121360"/>
            <a:ext cx="108000" cy="1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8"/>
          <p:cNvSpPr/>
          <p:nvPr/>
        </p:nvSpPr>
        <p:spPr>
          <a:xfrm>
            <a:off x="3887640" y="5391000"/>
            <a:ext cx="10800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9"/>
          <p:cNvSpPr/>
          <p:nvPr/>
        </p:nvSpPr>
        <p:spPr>
          <a:xfrm>
            <a:off x="3887640" y="5695920"/>
            <a:ext cx="108000" cy="10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40"/>
          <p:cNvSpPr/>
          <p:nvPr/>
        </p:nvSpPr>
        <p:spPr>
          <a:xfrm>
            <a:off x="1800360" y="476100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2"/>
          <p:cNvSpPr/>
          <p:nvPr/>
        </p:nvSpPr>
        <p:spPr>
          <a:xfrm>
            <a:off x="2771640" y="4869000"/>
            <a:ext cx="7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37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2"/>
          <p:cNvSpPr/>
          <p:nvPr/>
        </p:nvSpPr>
        <p:spPr>
          <a:xfrm>
            <a:off x="1116000" y="535320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16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1584360" y="4452840"/>
            <a:ext cx="71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2"/>
          <p:cNvSpPr/>
          <p:nvPr/>
        </p:nvSpPr>
        <p:spPr>
          <a:xfrm>
            <a:off x="1116000" y="481320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7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2"/>
          <p:cNvSpPr/>
          <p:nvPr/>
        </p:nvSpPr>
        <p:spPr>
          <a:xfrm>
            <a:off x="1908000" y="5913360"/>
            <a:ext cx="93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25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9"/>
          <p:cNvSpPr/>
          <p:nvPr/>
        </p:nvSpPr>
        <p:spPr>
          <a:xfrm>
            <a:off x="1258920" y="1652760"/>
            <a:ext cx="2521080" cy="1296720"/>
          </a:xfrm>
          <a:custGeom>
            <a:avLst/>
            <a:gdLst/>
            <a:ahLst/>
            <a:rect l="l" t="t" r="r" b="b"/>
            <a:pathLst>
              <a:path w="2520280" h="1296144">
                <a:moveTo>
                  <a:pt x="0" y="138232"/>
                </a:moveTo>
                <a:cubicBezTo>
                  <a:pt x="0" y="101571"/>
                  <a:pt x="14564" y="66411"/>
                  <a:pt x="40487" y="40487"/>
                </a:cubicBezTo>
                <a:cubicBezTo>
                  <a:pt x="66411" y="14563"/>
                  <a:pt x="101570" y="0"/>
                  <a:pt x="138232" y="0"/>
                </a:cubicBezTo>
                <a:lnTo>
                  <a:pt x="2382048" y="0"/>
                </a:lnTo>
                <a:cubicBezTo>
                  <a:pt x="2418709" y="0"/>
                  <a:pt x="2453869" y="14564"/>
                  <a:pt x="2479793" y="40487"/>
                </a:cubicBezTo>
                <a:cubicBezTo>
                  <a:pt x="2505717" y="66411"/>
                  <a:pt x="2520280" y="101570"/>
                  <a:pt x="2520280" y="138232"/>
                </a:cubicBezTo>
                <a:lnTo>
                  <a:pt x="2520280" y="1013896"/>
                </a:lnTo>
                <a:cubicBezTo>
                  <a:pt x="2520280" y="1050557"/>
                  <a:pt x="2505716" y="1085717"/>
                  <a:pt x="2479793" y="1111641"/>
                </a:cubicBezTo>
                <a:cubicBezTo>
                  <a:pt x="2453869" y="1137565"/>
                  <a:pt x="2398734" y="1151529"/>
                  <a:pt x="2382048" y="1152128"/>
                </a:cubicBezTo>
                <a:lnTo>
                  <a:pt x="1404156" y="1152128"/>
                </a:lnTo>
                <a:lnTo>
                  <a:pt x="1260140" y="1296144"/>
                </a:lnTo>
                <a:lnTo>
                  <a:pt x="1115325" y="1146266"/>
                </a:lnTo>
                <a:lnTo>
                  <a:pt x="138232" y="1152128"/>
                </a:lnTo>
                <a:cubicBezTo>
                  <a:pt x="101571" y="1152128"/>
                  <a:pt x="66411" y="1137564"/>
                  <a:pt x="40487" y="1111641"/>
                </a:cubicBezTo>
                <a:cubicBezTo>
                  <a:pt x="14563" y="1085717"/>
                  <a:pt x="0" y="1050558"/>
                  <a:pt x="0" y="1013896"/>
                </a:cubicBezTo>
                <a:lnTo>
                  <a:pt x="0" y="138232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50"/>
          <p:cNvSpPr/>
          <p:nvPr/>
        </p:nvSpPr>
        <p:spPr>
          <a:xfrm>
            <a:off x="4788000" y="1652760"/>
            <a:ext cx="2520720" cy="1296720"/>
          </a:xfrm>
          <a:custGeom>
            <a:avLst/>
            <a:gdLst/>
            <a:ahLst/>
            <a:rect l="l" t="t" r="r" b="b"/>
            <a:pathLst>
              <a:path w="2520280" h="1296144">
                <a:moveTo>
                  <a:pt x="0" y="138232"/>
                </a:moveTo>
                <a:cubicBezTo>
                  <a:pt x="0" y="101571"/>
                  <a:pt x="14564" y="66411"/>
                  <a:pt x="40487" y="40487"/>
                </a:cubicBezTo>
                <a:cubicBezTo>
                  <a:pt x="66411" y="14563"/>
                  <a:pt x="101570" y="0"/>
                  <a:pt x="138232" y="0"/>
                </a:cubicBezTo>
                <a:lnTo>
                  <a:pt x="2382048" y="0"/>
                </a:lnTo>
                <a:cubicBezTo>
                  <a:pt x="2418709" y="0"/>
                  <a:pt x="2453869" y="14564"/>
                  <a:pt x="2479793" y="40487"/>
                </a:cubicBezTo>
                <a:cubicBezTo>
                  <a:pt x="2505717" y="66411"/>
                  <a:pt x="2520280" y="101570"/>
                  <a:pt x="2520280" y="138232"/>
                </a:cubicBezTo>
                <a:lnTo>
                  <a:pt x="2520280" y="1013896"/>
                </a:lnTo>
                <a:cubicBezTo>
                  <a:pt x="2520280" y="1050557"/>
                  <a:pt x="2505716" y="1085717"/>
                  <a:pt x="2479793" y="1111641"/>
                </a:cubicBezTo>
                <a:cubicBezTo>
                  <a:pt x="2453869" y="1137565"/>
                  <a:pt x="2398734" y="1151529"/>
                  <a:pt x="2382048" y="1152128"/>
                </a:cubicBezTo>
                <a:lnTo>
                  <a:pt x="1404156" y="1152128"/>
                </a:lnTo>
                <a:lnTo>
                  <a:pt x="1260140" y="1296144"/>
                </a:lnTo>
                <a:lnTo>
                  <a:pt x="1115325" y="1146266"/>
                </a:lnTo>
                <a:lnTo>
                  <a:pt x="138232" y="1152128"/>
                </a:lnTo>
                <a:cubicBezTo>
                  <a:pt x="101571" y="1152128"/>
                  <a:pt x="66411" y="1137564"/>
                  <a:pt x="40487" y="1111641"/>
                </a:cubicBezTo>
                <a:cubicBezTo>
                  <a:pt x="14563" y="1085717"/>
                  <a:pt x="0" y="1050558"/>
                  <a:pt x="0" y="1013896"/>
                </a:cubicBezTo>
                <a:lnTo>
                  <a:pt x="0" y="138232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40F-2D5C-4C56-958E-B4CA0ADD7407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5"/>
          <p:cNvSpPr/>
          <p:nvPr/>
        </p:nvSpPr>
        <p:spPr>
          <a:xfrm>
            <a:off x="431640" y="444600"/>
            <a:ext cx="504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  <a:ea typeface="Arial"/>
              </a:rPr>
              <a:t>ПРОГРАММА «ГАРАНТ СБЫ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92360" y="1989000"/>
          <a:ext cx="5761080" cy="3672000"/>
        </p:xfrm>
        <a:graphic>
          <a:graphicData uri="http://schemas.openxmlformats.org/drawingml/2006/table">
            <a:tbl>
              <a:tblPr/>
              <a:tblGrid>
                <a:gridCol w="3814560"/>
                <a:gridCol w="1946520"/>
              </a:tblGrid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Населенные пун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Площадь объектов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кв.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ведено в эксплуатацию в 2014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Ханты-Мансий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10 974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Сург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22 001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сего в 2014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32 97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68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 рамках программы «Стимул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ОАО «Агентство финансирования жилищного строительств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Нижневартовс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9 341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Ханты-Мансийс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2 84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Нефтеюган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3 562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сего в 2014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15 74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ИТ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48 72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  <p:sp>
        <p:nvSpPr>
          <p:cNvPr id="243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750A-AA18-4B10-A823-079D5AD9E540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Z:\Отдел Маркетинга\Журнал\38 номер\Нефтеюганск\Арендный дом_Нефтеюганск3\DSC08212.jpg"/>
          <p:cNvPicPr/>
          <p:nvPr/>
        </p:nvPicPr>
        <p:blipFill>
          <a:blip r:embed="rId2"/>
          <a:stretch/>
        </p:blipFill>
        <p:spPr>
          <a:xfrm>
            <a:off x="431640" y="2313000"/>
            <a:ext cx="4861080" cy="3228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431640" y="1628640"/>
            <a:ext cx="504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Нефтеюганск, 11Б мкр., ул. Школьная, дом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3902-F0A5-4FD4-BBC2-B4EA55D35311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6335640" y="1989000"/>
            <a:ext cx="205272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684,25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43 274,8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1,94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93,79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31640" y="262800"/>
            <a:ext cx="26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7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431640" y="5877000"/>
            <a:ext cx="4572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I квартал 2014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4"/>
          <p:cNvSpPr/>
          <p:nvPr/>
        </p:nvSpPr>
        <p:spPr>
          <a:xfrm>
            <a:off x="431640" y="1628640"/>
            <a:ext cx="4392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Ханты-Мансийск, ул. Югорская, дом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Z:\Отдел Маркетинга\Журнал\Презентации ИАЮ\2015\home-photo3.png"/>
          <p:cNvPicPr/>
          <p:nvPr/>
        </p:nvPicPr>
        <p:blipFill>
          <a:blip r:embed="rId2"/>
          <a:stretch/>
        </p:blipFill>
        <p:spPr>
          <a:xfrm>
            <a:off x="431640" y="2313000"/>
            <a:ext cx="4551480" cy="3419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5CAB-367B-47F0-8C09-6B08A7FBCB02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300720" y="1989000"/>
            <a:ext cx="197964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511,60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4 326,1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,9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36,2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31640" y="262800"/>
            <a:ext cx="298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7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431640" y="5877000"/>
            <a:ext cx="2268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1640" y="262800"/>
            <a:ext cx="31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Z:\Отдел Маркетинга\Журнал\38 номер\Взлетный\19-08-2014_08-15-29\IMG_7316.jpg"/>
          <p:cNvPicPr/>
          <p:nvPr/>
        </p:nvPicPr>
        <p:blipFill>
          <a:blip r:embed="rId2"/>
          <a:srcRect l="10715" t="10715" r="5950" b="7134"/>
          <a:stretch/>
        </p:blipFill>
        <p:spPr>
          <a:xfrm>
            <a:off x="431640" y="2313000"/>
            <a:ext cx="4861080" cy="3195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D7F-3859-4B29-AF96-55297A3F1422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6335640" y="1989000"/>
            <a:ext cx="190836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 812,80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61 765,7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9,1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2,4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31640" y="1628640"/>
            <a:ext cx="514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Сургут, 30 мкр., ул. Ивана Захарова, дом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олилиния 6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431640" y="5877000"/>
            <a:ext cx="4572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4"/>
          <p:cNvSpPr/>
          <p:nvPr/>
        </p:nvSpPr>
        <p:spPr>
          <a:xfrm>
            <a:off x="431640" y="1628640"/>
            <a:ext cx="345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Сургут, 45 мкр., дом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E661-2165-4AA4-9F79-8A73EA8ED60C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6335640" y="1989000"/>
            <a:ext cx="194472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 744,70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48 751,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,7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45,2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31640" y="262800"/>
            <a:ext cx="280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5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Z:\Отдел Маркетинга\Журнал\Презентации ИАЮ\2015\Рисунок1.jpg"/>
          <p:cNvPicPr/>
          <p:nvPr/>
        </p:nvPicPr>
        <p:blipFill>
          <a:blip r:embed="rId2"/>
          <a:srcRect l="4970" t="6428" r="0" b="8527"/>
          <a:stretch/>
        </p:blipFill>
        <p:spPr>
          <a:xfrm>
            <a:off x="431640" y="2313000"/>
            <a:ext cx="3564000" cy="3887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4140360" y="5769000"/>
            <a:ext cx="17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692360" y="1989000"/>
          <a:ext cx="6264360" cy="2340000"/>
        </p:xfrm>
        <a:graphic>
          <a:graphicData uri="http://schemas.openxmlformats.org/drawingml/2006/table">
            <a:tbl>
              <a:tblPr/>
              <a:tblGrid>
                <a:gridCol w="2778120"/>
                <a:gridCol w="1743120"/>
                <a:gridCol w="1743120"/>
              </a:tblGrid>
              <a:tr h="625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 РС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 МС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26 094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291 918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 67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2 534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2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2 445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66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быль до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 92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 27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 940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 605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8"/>
          <p:cNvSpPr/>
          <p:nvPr/>
        </p:nvSpPr>
        <p:spPr>
          <a:xfrm>
            <a:off x="431640" y="260280"/>
            <a:ext cx="511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ПОКАЗАТЕЛИ ФИНАНСОВОЙ ОТЧЕТНОСТИ НА 31.12.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A9D-5A34-4DAA-A6FF-04D2389AA6CC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459-9CC3-4EE5-8B45-35DF0638A761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6"/>
          <p:cNvSpPr/>
          <p:nvPr/>
        </p:nvSpPr>
        <p:spPr>
          <a:xfrm>
            <a:off x="4645080" y="2341440"/>
            <a:ext cx="19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6"/>
          <p:cNvSpPr/>
          <p:nvPr/>
        </p:nvSpPr>
        <p:spPr>
          <a:xfrm>
            <a:off x="669600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6"/>
          <p:cNvSpPr/>
          <p:nvPr/>
        </p:nvSpPr>
        <p:spPr>
          <a:xfrm>
            <a:off x="43164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31640" y="260280"/>
            <a:ext cx="842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"/>
              </a:rPr>
              <a:t>ОАО «ИПОТЕЧНОЕ АГЕНТСТВО ЮГРЫ» В 201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6"/>
          <p:cNvSpPr/>
          <p:nvPr/>
        </p:nvSpPr>
        <p:spPr>
          <a:xfrm>
            <a:off x="43164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250920" y="248436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АС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РЕАЛИЗАЦИИ ОКРУЖНОЙ ЖИЛИЩ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6"/>
          <p:cNvSpPr/>
          <p:nvPr/>
        </p:nvSpPr>
        <p:spPr>
          <a:xfrm>
            <a:off x="669600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6750000" y="259236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ЫНКА АРЕНДНОГО ЖИЛ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684360" y="3952800"/>
            <a:ext cx="17269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консульт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поддержк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е субсид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омпенсации части процентной ст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7"/>
          <p:cNvSpPr/>
          <p:nvPr/>
        </p:nvSpPr>
        <p:spPr>
          <a:xfrm>
            <a:off x="6786720" y="3952800"/>
            <a:ext cx="1709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ство  наемных (арендных) до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Сургу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нты-Мансий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фтеюган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правление 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Прямоугольник 66"/>
          <p:cNvGrpSpPr/>
          <p:nvPr/>
        </p:nvGrpSpPr>
        <p:grpSpPr>
          <a:xfrm>
            <a:off x="512640" y="4029120"/>
            <a:ext cx="212760" cy="208080"/>
            <a:chOff x="512640" y="4029120"/>
            <a:chExt cx="212760" cy="208080"/>
          </a:xfrm>
        </p:grpSpPr>
        <p:pic>
          <p:nvPicPr>
            <p:cNvPr id="62" name="Прямоугольник 66" descr=""/>
            <p:cNvPicPr/>
            <p:nvPr/>
          </p:nvPicPr>
          <p:blipFill>
            <a:blip r:embed="rId2"/>
            <a:stretch/>
          </p:blipFill>
          <p:spPr>
            <a:xfrm>
              <a:off x="512640" y="402912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76360" y="4059360"/>
              <a:ext cx="88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91"/>
          <p:cNvSpPr/>
          <p:nvPr/>
        </p:nvSpPr>
        <p:spPr>
          <a:xfrm>
            <a:off x="142092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1"/>
          <p:cNvSpPr/>
          <p:nvPr/>
        </p:nvSpPr>
        <p:spPr>
          <a:xfrm>
            <a:off x="774072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6"/>
          <p:cNvSpPr/>
          <p:nvPr/>
        </p:nvSpPr>
        <p:spPr>
          <a:xfrm>
            <a:off x="248436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6"/>
          <p:cNvSpPr/>
          <p:nvPr/>
        </p:nvSpPr>
        <p:spPr>
          <a:xfrm>
            <a:off x="248436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2502000" y="2592360"/>
            <a:ext cx="19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ЛУГИ НА РЫНКЕ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2808360" y="3952800"/>
            <a:ext cx="1530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жа жилья на первичном рынке, в т.ч. собств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услуг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потечному кредит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1"/>
          <p:cNvSpPr/>
          <p:nvPr/>
        </p:nvSpPr>
        <p:spPr>
          <a:xfrm>
            <a:off x="343836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643280" y="259236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ГАРАНТ СБЫ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6"/>
          <p:cNvSpPr/>
          <p:nvPr/>
        </p:nvSpPr>
        <p:spPr>
          <a:xfrm>
            <a:off x="4645080" y="3852720"/>
            <a:ext cx="190800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824360" y="3952800"/>
            <a:ext cx="187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гарантий выкупа застройщ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едиторам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6"/>
          <p:cNvSpPr/>
          <p:nvPr/>
        </p:nvSpPr>
        <p:spPr>
          <a:xfrm>
            <a:off x="431640" y="1596960"/>
            <a:ext cx="395928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6"/>
          <p:cNvSpPr/>
          <p:nvPr/>
        </p:nvSpPr>
        <p:spPr>
          <a:xfrm>
            <a:off x="4645080" y="1596960"/>
            <a:ext cx="395928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Корпоратив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360360" y="170028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озничный блок «Единое ок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1"/>
          <p:cNvSpPr/>
          <p:nvPr/>
        </p:nvSpPr>
        <p:spPr>
          <a:xfrm>
            <a:off x="563400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Прямоугольник 66"/>
          <p:cNvGrpSpPr/>
          <p:nvPr/>
        </p:nvGrpSpPr>
        <p:grpSpPr>
          <a:xfrm>
            <a:off x="512640" y="4522680"/>
            <a:ext cx="212760" cy="208080"/>
            <a:chOff x="512640" y="4522680"/>
            <a:chExt cx="212760" cy="208080"/>
          </a:xfrm>
        </p:grpSpPr>
        <p:pic>
          <p:nvPicPr>
            <p:cNvPr id="79" name="Прямоугольник 66" descr=""/>
            <p:cNvPicPr/>
            <p:nvPr/>
          </p:nvPicPr>
          <p:blipFill>
            <a:blip r:embed="rId3"/>
            <a:stretch/>
          </p:blipFill>
          <p:spPr>
            <a:xfrm>
              <a:off x="512640" y="452268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76360" y="4554360"/>
              <a:ext cx="889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66"/>
          <p:cNvGrpSpPr/>
          <p:nvPr/>
        </p:nvGrpSpPr>
        <p:grpSpPr>
          <a:xfrm>
            <a:off x="512640" y="5016600"/>
            <a:ext cx="212760" cy="207720"/>
            <a:chOff x="512640" y="5016600"/>
            <a:chExt cx="212760" cy="207720"/>
          </a:xfrm>
        </p:grpSpPr>
        <p:pic>
          <p:nvPicPr>
            <p:cNvPr id="82" name="Прямоугольник 66" descr=""/>
            <p:cNvPicPr/>
            <p:nvPr/>
          </p:nvPicPr>
          <p:blipFill>
            <a:blip r:embed="rId4"/>
            <a:stretch/>
          </p:blipFill>
          <p:spPr>
            <a:xfrm>
              <a:off x="512640" y="501660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76360" y="5049720"/>
              <a:ext cx="889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66"/>
          <p:cNvGrpSpPr/>
          <p:nvPr/>
        </p:nvGrpSpPr>
        <p:grpSpPr>
          <a:xfrm>
            <a:off x="2567160" y="4029120"/>
            <a:ext cx="212400" cy="208080"/>
            <a:chOff x="2567160" y="4029120"/>
            <a:chExt cx="212400" cy="208080"/>
          </a:xfrm>
        </p:grpSpPr>
        <p:pic>
          <p:nvPicPr>
            <p:cNvPr id="85" name="Прямоугольник 66" descr=""/>
            <p:cNvPicPr/>
            <p:nvPr/>
          </p:nvPicPr>
          <p:blipFill>
            <a:blip r:embed="rId5"/>
            <a:stretch/>
          </p:blipFill>
          <p:spPr>
            <a:xfrm>
              <a:off x="2567160" y="4029120"/>
              <a:ext cx="2124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629080" y="4059360"/>
              <a:ext cx="8856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66"/>
          <p:cNvGrpSpPr/>
          <p:nvPr/>
        </p:nvGrpSpPr>
        <p:grpSpPr>
          <a:xfrm>
            <a:off x="2567160" y="4943520"/>
            <a:ext cx="212400" cy="208080"/>
            <a:chOff x="2567160" y="4943520"/>
            <a:chExt cx="212400" cy="208080"/>
          </a:xfrm>
        </p:grpSpPr>
        <p:pic>
          <p:nvPicPr>
            <p:cNvPr id="88" name="Прямоугольник 66" descr=""/>
            <p:cNvPicPr/>
            <p:nvPr/>
          </p:nvPicPr>
          <p:blipFill>
            <a:blip r:embed="rId6"/>
            <a:stretch/>
          </p:blipFill>
          <p:spPr>
            <a:xfrm>
              <a:off x="2567160" y="4943520"/>
              <a:ext cx="2124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629080" y="4976640"/>
              <a:ext cx="8856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431640" y="260280"/>
            <a:ext cx="817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ТРАТЕГИЧЕСКИЕ ЦЕЛИ АГЕНТ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ДО 202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95280" y="1989000"/>
            <a:ext cx="68770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тор Правительства автономного округа по реализации и сопровождению окружных программ в сфере жилищной политики и жилищного строи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ижение доли услуги «одного окна» (ипотечный брокер, продажа «первичного жилья») к 2020 году на рынке – 2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я пилотных инвестиционных проектов в 2013–2015 годах по строительству и/или приобретению наемных (арендных) домов в городах Сургуте, Ханты-Мансийске и Нефтеюганске в объеме 27 тыс. кв. мет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2020 году доля Агентства на рынке арендного жилья, сдаваемого внаем юридическими лицами (бизнес-единицами), – не менее 20 % (от общего объема ввода такого жилья в период 2016–2020 года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816360" y="5624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тратегия утверждена Советом директоров 31 мая 2013 года (протокол №14) в соответствии с Распоряжением Правительства автономного округа от 24 мая 2013 г. № 247-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>
            <a:off x="3816360" y="5695920"/>
            <a:ext cx="0" cy="504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66"/>
          <p:cNvGrpSpPr/>
          <p:nvPr/>
        </p:nvGrpSpPr>
        <p:grpSpPr>
          <a:xfrm>
            <a:off x="907920" y="2030400"/>
            <a:ext cx="268560" cy="262080"/>
            <a:chOff x="907920" y="2030400"/>
            <a:chExt cx="268560" cy="262080"/>
          </a:xfrm>
        </p:grpSpPr>
        <p:pic>
          <p:nvPicPr>
            <p:cNvPr id="95" name="Прямоугольник 66" descr=""/>
            <p:cNvPicPr/>
            <p:nvPr/>
          </p:nvPicPr>
          <p:blipFill>
            <a:blip r:embed="rId2"/>
            <a:stretch/>
          </p:blipFill>
          <p:spPr>
            <a:xfrm>
              <a:off x="907920" y="2030400"/>
              <a:ext cx="2685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71640" y="206064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66"/>
          <p:cNvGrpSpPr/>
          <p:nvPr/>
        </p:nvGrpSpPr>
        <p:grpSpPr>
          <a:xfrm>
            <a:off x="907920" y="2610000"/>
            <a:ext cx="268560" cy="255600"/>
            <a:chOff x="907920" y="2610000"/>
            <a:chExt cx="268560" cy="255600"/>
          </a:xfrm>
        </p:grpSpPr>
        <p:pic>
          <p:nvPicPr>
            <p:cNvPr id="98" name="Прямоугольник 66" descr=""/>
            <p:cNvPicPr/>
            <p:nvPr/>
          </p:nvPicPr>
          <p:blipFill>
            <a:blip r:embed="rId3"/>
            <a:stretch/>
          </p:blipFill>
          <p:spPr>
            <a:xfrm>
              <a:off x="907920" y="2610000"/>
              <a:ext cx="2685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71640" y="263700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66"/>
          <p:cNvGrpSpPr/>
          <p:nvPr/>
        </p:nvGrpSpPr>
        <p:grpSpPr>
          <a:xfrm>
            <a:off x="907920" y="3181320"/>
            <a:ext cx="268560" cy="263520"/>
            <a:chOff x="907920" y="3181320"/>
            <a:chExt cx="268560" cy="263520"/>
          </a:xfrm>
        </p:grpSpPr>
        <p:pic>
          <p:nvPicPr>
            <p:cNvPr id="101" name="Прямоугольник 66" descr=""/>
            <p:cNvPicPr/>
            <p:nvPr/>
          </p:nvPicPr>
          <p:blipFill>
            <a:blip r:embed="rId4"/>
            <a:stretch/>
          </p:blipFill>
          <p:spPr>
            <a:xfrm>
              <a:off x="907920" y="3181320"/>
              <a:ext cx="2685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71640" y="321300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66"/>
          <p:cNvGrpSpPr/>
          <p:nvPr/>
        </p:nvGrpSpPr>
        <p:grpSpPr>
          <a:xfrm>
            <a:off x="907920" y="3975120"/>
            <a:ext cx="268560" cy="262080"/>
            <a:chOff x="907920" y="3975120"/>
            <a:chExt cx="268560" cy="262080"/>
          </a:xfrm>
        </p:grpSpPr>
        <p:pic>
          <p:nvPicPr>
            <p:cNvPr id="104" name="Прямоугольник 66" descr=""/>
            <p:cNvPicPr/>
            <p:nvPr/>
          </p:nvPicPr>
          <p:blipFill>
            <a:blip r:embed="rId5"/>
            <a:stretch/>
          </p:blipFill>
          <p:spPr>
            <a:xfrm>
              <a:off x="907920" y="3975120"/>
              <a:ext cx="2685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71640" y="400536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870B-4925-4854-B1CA-D61AEB692F9A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Shape 54"/>
          <p:cNvCxnSpPr>
            <a:stCxn id="108" idx="3"/>
            <a:endCxn id="109" idx="0"/>
          </p:cNvCxnSpPr>
          <p:nvPr/>
        </p:nvCxnSpPr>
        <p:spPr>
          <a:xfrm>
            <a:off x="5940000" y="1885680"/>
            <a:ext cx="685080" cy="2305440"/>
          </a:xfrm>
          <a:prstGeom prst="bentConnector2">
            <a:avLst/>
          </a:prstGeom>
          <a:ln w="28440">
            <a:solidFill>
              <a:srgbClr val="ffcc00"/>
            </a:solidFill>
            <a:miter/>
          </a:ln>
        </p:spPr>
      </p:cxnSp>
      <p:sp>
        <p:nvSpPr>
          <p:cNvPr id="110" name="Прямоугольник 66"/>
          <p:cNvSpPr/>
          <p:nvPr/>
        </p:nvSpPr>
        <p:spPr>
          <a:xfrm>
            <a:off x="4824360" y="3038400"/>
            <a:ext cx="3600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hape 52"/>
          <p:cNvCxnSpPr>
            <a:stCxn id="108" idx="1"/>
            <a:endCxn id="112" idx="0"/>
          </p:cNvCxnSpPr>
          <p:nvPr/>
        </p:nvCxnSpPr>
        <p:spPr>
          <a:xfrm flipV="1" rot="10800000">
            <a:off x="2231280" y="1884600"/>
            <a:ext cx="577080" cy="2305440"/>
          </a:xfrm>
          <a:prstGeom prst="bentConnector2">
            <a:avLst/>
          </a:prstGeom>
          <a:ln w="28440">
            <a:solidFill>
              <a:srgbClr val="ffcc00"/>
            </a:solidFill>
            <a:miter/>
          </a:ln>
        </p:spPr>
      </p:cxnSp>
      <p:sp>
        <p:nvSpPr>
          <p:cNvPr id="113" name="Прямоугольник 66"/>
          <p:cNvSpPr/>
          <p:nvPr/>
        </p:nvSpPr>
        <p:spPr>
          <a:xfrm>
            <a:off x="431640" y="3038400"/>
            <a:ext cx="36007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6"/>
          <p:cNvSpPr/>
          <p:nvPr/>
        </p:nvSpPr>
        <p:spPr>
          <a:xfrm>
            <a:off x="2808360" y="1598760"/>
            <a:ext cx="3132000" cy="57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259920"/>
            <a:ext cx="53485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РСПЕКТИВЫ РАЗВИТ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46"/>
          <p:cNvSpPr/>
          <p:nvPr/>
        </p:nvSpPr>
        <p:spPr>
          <a:xfrm>
            <a:off x="4140360" y="3254400"/>
            <a:ext cx="539640" cy="431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2970360" y="16095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ЗНИЧ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Единое ок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95280" y="3146400"/>
            <a:ext cx="3708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  "/>
              </a:rPr>
              <a:t>ОСНОВНО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АЯ ПОДДЕР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4824360" y="3146400"/>
            <a:ext cx="3600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  "/>
              </a:rPr>
              <a:t>ОСНОВНО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ЛЬ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дажа, сдача в арен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431640" y="4191120"/>
            <a:ext cx="3600720" cy="1331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431640" y="434664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6"/>
          <p:cNvSpPr/>
          <p:nvPr/>
        </p:nvSpPr>
        <p:spPr>
          <a:xfrm>
            <a:off x="4824360" y="4191120"/>
            <a:ext cx="3600360" cy="1331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2448000" y="55958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971640" y="5595840"/>
            <a:ext cx="104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потеч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6"/>
          <p:cNvSpPr/>
          <p:nvPr/>
        </p:nvSpPr>
        <p:spPr>
          <a:xfrm flipV="1">
            <a:off x="1042920" y="4947480"/>
            <a:ext cx="93672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6588000" y="55958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удар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6"/>
          <p:cNvSpPr/>
          <p:nvPr/>
        </p:nvSpPr>
        <p:spPr>
          <a:xfrm flipV="1">
            <a:off x="5418000" y="5019840"/>
            <a:ext cx="1008360" cy="50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6"/>
          <p:cNvSpPr/>
          <p:nvPr/>
        </p:nvSpPr>
        <p:spPr>
          <a:xfrm flipV="1">
            <a:off x="6875640" y="5019840"/>
            <a:ext cx="1009440" cy="50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6"/>
          <p:cNvSpPr/>
          <p:nvPr/>
        </p:nvSpPr>
        <p:spPr>
          <a:xfrm flipV="1">
            <a:off x="2519280" y="5379480"/>
            <a:ext cx="8636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3492360" y="2535120"/>
            <a:ext cx="18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4–2015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97"/>
          <p:cNvSpPr/>
          <p:nvPr/>
        </p:nvSpPr>
        <p:spPr>
          <a:xfrm>
            <a:off x="4176720" y="4622760"/>
            <a:ext cx="503280" cy="4334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82"/>
          <p:cNvSpPr/>
          <p:nvPr/>
        </p:nvSpPr>
        <p:spPr>
          <a:xfrm flipH="1">
            <a:off x="431640" y="5522760"/>
            <a:ext cx="36007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8"/>
          <p:cNvSpPr/>
          <p:nvPr/>
        </p:nvSpPr>
        <p:spPr>
          <a:xfrm flipH="1">
            <a:off x="4824000" y="5522760"/>
            <a:ext cx="36003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5400720" y="559584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потеч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4824360" y="4346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1727280" y="2535120"/>
            <a:ext cx="1008000" cy="21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5977080" y="2535120"/>
            <a:ext cx="1331640" cy="21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6–202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75C-C4F3-4AC2-9DF2-B5A43C5C402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431640" y="262800"/>
            <a:ext cx="5348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РСПЕКТИВЫ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6"/>
          <p:cNvSpPr/>
          <p:nvPr/>
        </p:nvSpPr>
        <p:spPr>
          <a:xfrm>
            <a:off x="2808360" y="1989000"/>
            <a:ext cx="313200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2970360" y="21081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ПОРАТИВ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09920" y="3433680"/>
            <a:ext cx="37288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собственного фонда арендного жилья путем приобретения наемных (арендных) домов и управления 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6"/>
          <p:cNvSpPr/>
          <p:nvPr/>
        </p:nvSpPr>
        <p:spPr>
          <a:xfrm>
            <a:off x="2016000" y="2889360"/>
            <a:ext cx="4716720" cy="2016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41E-ECC0-4770-BDD9-77301D39CB54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1"/>
          <p:cNvSpPr/>
          <p:nvPr/>
        </p:nvSpPr>
        <p:spPr>
          <a:xfrm>
            <a:off x="4375080" y="2565360"/>
            <a:ext cx="0" cy="32400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431640" y="260280"/>
            <a:ext cx="680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ИЗВЕС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ИПОТЕЧНОГО АГЕНТСТВА Ю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692360" y="3135600"/>
            <a:ext cx="6227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Это весьма высокий показатель известности для организации. При этом , каждый четвертый житель Югры хорошо знаком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с организацией и каждый десятый имеет опыт взаимодей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с Агент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655640" y="1700280"/>
            <a:ext cx="154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Arial Narrow"/>
              </a:rPr>
              <a:t>72</a:t>
            </a:r>
            <a:r>
              <a:rPr b="1" lang="en-US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168720" y="2282760"/>
            <a:ext cx="4572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 "/>
                <a:ea typeface="Calibri"/>
              </a:rPr>
              <a:t>уровень извес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 "/>
                <a:ea typeface="Calibri"/>
              </a:rPr>
              <a:t>и узнаваемости Агентства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3132000" y="5597640"/>
            <a:ext cx="4680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 "/>
                <a:ea typeface="Calibri"/>
              </a:rPr>
              <a:t>*По данным социологического исследования, проведенного 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4F2-19E7-4168-BED1-8A4CAFB6BA86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1640" y="26280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АГЕНТСТВА В 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НОЙ ЖИЛИЩН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1592280"/>
          <a:ext cx="6770520" cy="4751280"/>
        </p:xfrm>
        <a:graphic>
          <a:graphicData uri="http://schemas.openxmlformats.org/drawingml/2006/table">
            <a:tbl>
              <a:tblPr/>
              <a:tblGrid>
                <a:gridCol w="3490920"/>
                <a:gridCol w="1233360"/>
                <a:gridCol w="992160"/>
                <a:gridCol w="1054080"/>
              </a:tblGrid>
              <a:tr h="285840"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3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инамика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28548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БСИД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программа «Доступное жилье молоды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оставлено 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субсидий, млн.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 269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68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программа «Обеспечение жилыми помещениями граждан из числа КМНС в ХМАО - Югр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оставлено 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субсидий, млн.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1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220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МПЕНСАЦИЯ ПРОЦЕНТНОЙ СТ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о консультаций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 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 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5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авлено на учет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 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 5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5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ключено трехсторонних соглашений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 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4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6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оимость приобретенной в рамках подпрограммы жилья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 84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 3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544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КОПИТЕЛЬНАЯ ИПОТ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нято заявлений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ключено договоров социальной выплаты, шт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обязательств по договорам социальных выплат, млн.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CE8D-D314-4E22-92CB-41D8EE4C1B53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олилиния 18"/>
          <p:cNvSpPr/>
          <p:nvPr/>
        </p:nvSpPr>
        <p:spPr>
          <a:xfrm>
            <a:off x="2951280" y="2276640"/>
            <a:ext cx="3060720" cy="2447640"/>
          </a:xfrm>
          <a:custGeom>
            <a:avLst/>
            <a:gdLst/>
            <a:ahLst/>
            <a:rect l="l" t="t" r="r" b="b"/>
            <a:pathLst>
              <a:path w="2957399" h="2448272">
                <a:moveTo>
                  <a:pt x="0" y="0"/>
                </a:moveTo>
                <a:lnTo>
                  <a:pt x="2957399" y="432048"/>
                </a:lnTo>
                <a:lnTo>
                  <a:pt x="2957399" y="2016224"/>
                </a:lnTo>
                <a:lnTo>
                  <a:pt x="0" y="2448272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7"/>
          <p:cNvSpPr/>
          <p:nvPr/>
        </p:nvSpPr>
        <p:spPr>
          <a:xfrm>
            <a:off x="5184720" y="2708280"/>
            <a:ext cx="1582920" cy="15843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6"/>
          <p:cNvSpPr/>
          <p:nvPr/>
        </p:nvSpPr>
        <p:spPr>
          <a:xfrm>
            <a:off x="1763640" y="2276640"/>
            <a:ext cx="2448000" cy="24476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280" y="266760"/>
            <a:ext cx="53485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  <a:ea typeface="Calibri"/>
              </a:rPr>
              <a:t>ОСОБЕННОСТИ РЕАЛИЗАЦИИ ОКРУЖНОЙ ЖИЛИЩНОЙ ПРОГРАММЫ В 2014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327D-CF39-40BB-AB69-E81FBF656E3A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19"/>
          <p:cNvGrpSpPr/>
          <p:nvPr/>
        </p:nvGrpSpPr>
        <p:grpSpPr>
          <a:xfrm>
            <a:off x="1996920" y="2922480"/>
            <a:ext cx="1981440" cy="937080"/>
            <a:chOff x="1996920" y="2922480"/>
            <a:chExt cx="1981440" cy="937080"/>
          </a:xfrm>
        </p:grpSpPr>
        <p:sp>
          <p:nvSpPr>
            <p:cNvPr id="158" name="Прямоугольник 8"/>
            <p:cNvSpPr/>
            <p:nvPr/>
          </p:nvSpPr>
          <p:spPr>
            <a:xfrm>
              <a:off x="1996920" y="3643560"/>
              <a:ext cx="1981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r>
                <a:rPr b="1" lang="ru-RU" sz="4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 Narrow"/>
                </a:rPr>
                <a:t>94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оугольник 8"/>
            <p:cNvSpPr/>
            <p:nvPr/>
          </p:nvSpPr>
          <p:spPr>
            <a:xfrm>
              <a:off x="2537280" y="2922480"/>
              <a:ext cx="900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Arial Narrow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20"/>
          <p:cNvGrpSpPr/>
          <p:nvPr/>
        </p:nvGrpSpPr>
        <p:grpSpPr>
          <a:xfrm>
            <a:off x="5111640" y="2960640"/>
            <a:ext cx="1800360" cy="808200"/>
            <a:chOff x="5111640" y="2960640"/>
            <a:chExt cx="1800360" cy="808200"/>
          </a:xfrm>
        </p:grpSpPr>
        <p:sp>
          <p:nvSpPr>
            <p:cNvPr id="161" name="Прямоугольник 8"/>
            <p:cNvSpPr/>
            <p:nvPr/>
          </p:nvSpPr>
          <p:spPr>
            <a:xfrm>
              <a:off x="5111640" y="3552840"/>
              <a:ext cx="180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Arial Narrow"/>
                </a:rPr>
                <a:t>3 49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8"/>
            <p:cNvSpPr/>
            <p:nvPr/>
          </p:nvSpPr>
          <p:spPr>
            <a:xfrm>
              <a:off x="5561640" y="2960640"/>
              <a:ext cx="9003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Arial Narrow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олилиния 22"/>
          <p:cNvSpPr/>
          <p:nvPr/>
        </p:nvSpPr>
        <p:spPr>
          <a:xfrm>
            <a:off x="4103640" y="4400640"/>
            <a:ext cx="4068720" cy="1873080"/>
          </a:xfrm>
          <a:custGeom>
            <a:avLst/>
            <a:gdLst/>
            <a:ahLst/>
            <a:rect l="l" t="t" r="r" b="b"/>
            <a:pathLst>
              <a:path w="3636404" h="1872208">
                <a:moveTo>
                  <a:pt x="0" y="545402"/>
                </a:moveTo>
                <a:cubicBezTo>
                  <a:pt x="0" y="496241"/>
                  <a:pt x="19529" y="449093"/>
                  <a:pt x="54291" y="414331"/>
                </a:cubicBezTo>
                <a:cubicBezTo>
                  <a:pt x="89053" y="379569"/>
                  <a:pt x="127027" y="369921"/>
                  <a:pt x="185362" y="360040"/>
                </a:cubicBezTo>
                <a:lnTo>
                  <a:pt x="396044" y="360040"/>
                </a:lnTo>
                <a:lnTo>
                  <a:pt x="396044" y="0"/>
                </a:lnTo>
                <a:lnTo>
                  <a:pt x="912304" y="355042"/>
                </a:lnTo>
                <a:lnTo>
                  <a:pt x="3451042" y="360040"/>
                </a:lnTo>
                <a:cubicBezTo>
                  <a:pt x="3500203" y="360040"/>
                  <a:pt x="3547351" y="379569"/>
                  <a:pt x="3582113" y="414331"/>
                </a:cubicBezTo>
                <a:cubicBezTo>
                  <a:pt x="3616875" y="449093"/>
                  <a:pt x="3636404" y="496241"/>
                  <a:pt x="3636404" y="545402"/>
                </a:cubicBezTo>
                <a:lnTo>
                  <a:pt x="3636404" y="1686846"/>
                </a:lnTo>
                <a:cubicBezTo>
                  <a:pt x="3636404" y="1736007"/>
                  <a:pt x="3616875" y="1783155"/>
                  <a:pt x="3582113" y="1817917"/>
                </a:cubicBezTo>
                <a:cubicBezTo>
                  <a:pt x="3547351" y="1852679"/>
                  <a:pt x="3500203" y="1872208"/>
                  <a:pt x="3451042" y="1872208"/>
                </a:cubicBezTo>
                <a:lnTo>
                  <a:pt x="185362" y="1872208"/>
                </a:lnTo>
                <a:cubicBezTo>
                  <a:pt x="136201" y="1872208"/>
                  <a:pt x="89053" y="1852679"/>
                  <a:pt x="54291" y="1817917"/>
                </a:cubicBezTo>
                <a:cubicBezTo>
                  <a:pt x="19529" y="1783155"/>
                  <a:pt x="0" y="1736007"/>
                  <a:pt x="0" y="1686846"/>
                </a:cubicBezTo>
                <a:lnTo>
                  <a:pt x="0" y="5454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016000" y="1773360"/>
            <a:ext cx="475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подписанных 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 сторонних согла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4500720" y="5013360"/>
            <a:ext cx="3384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ыми факторами, повлиявши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меньшение количества новых участников в 2014 году, стало введение «ценза» оседлости и уменьшение компенсации части процентной ст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431640" y="260280"/>
            <a:ext cx="658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М ИПОТЕЧНОГО КРЕДИТ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ХМАО – Ю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3EF0-E306-4733-96D2-97B9C7564F4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29" descr=""/>
          <p:cNvPicPr/>
          <p:nvPr/>
        </p:nvPicPr>
        <p:blipFill>
          <a:blip r:embed="rId2"/>
          <a:stretch/>
        </p:blipFill>
        <p:spPr>
          <a:xfrm>
            <a:off x="1908000" y="1987560"/>
            <a:ext cx="4821480" cy="32432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31"/>
          <p:cNvSpPr/>
          <p:nvPr/>
        </p:nvSpPr>
        <p:spPr>
          <a:xfrm>
            <a:off x="3311640" y="2349360"/>
            <a:ext cx="2197080" cy="21600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3"/>
          <p:cNvSpPr/>
          <p:nvPr/>
        </p:nvSpPr>
        <p:spPr>
          <a:xfrm flipV="1">
            <a:off x="3311640" y="3500280"/>
            <a:ext cx="2197080" cy="4334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3959280" y="351144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 "/>
              </a:rPr>
              <a:t>63</a:t>
            </a: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2"/>
          <p:cNvSpPr/>
          <p:nvPr/>
        </p:nvSpPr>
        <p:spPr>
          <a:xfrm>
            <a:off x="3941640" y="2205000"/>
            <a:ext cx="93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 "/>
              </a:rPr>
              <a:t>-12</a:t>
            </a:r>
            <a:r>
              <a:rPr b="1" lang="ru-RU" sz="1200" spc="-1" strike="noStrike">
                <a:solidFill>
                  <a:srgbClr val="c00000"/>
                </a:solidFill>
                <a:latin typeface="Arial "/>
              </a:rPr>
              <a:t>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35280" y="4473720"/>
          <a:ext cx="3780000" cy="12236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в т.ч. «Льготная ипотека», млрд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в т.ч. «Коммерческая ипотека», млрд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Динамик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Прямоугольник 41"/>
          <p:cNvSpPr/>
          <p:nvPr/>
        </p:nvSpPr>
        <p:spPr>
          <a:xfrm>
            <a:off x="2519280" y="4905360"/>
            <a:ext cx="108000" cy="10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2"/>
          <p:cNvSpPr/>
          <p:nvPr/>
        </p:nvSpPr>
        <p:spPr>
          <a:xfrm>
            <a:off x="2519280" y="5192640"/>
            <a:ext cx="108000" cy="1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2"/>
          <p:cNvSpPr/>
          <p:nvPr/>
        </p:nvSpPr>
        <p:spPr>
          <a:xfrm flipH="1">
            <a:off x="2484000" y="5553000"/>
            <a:ext cx="179640" cy="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3062520" y="249228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,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258880" y="263700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9,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9"/>
          <p:cNvSpPr/>
          <p:nvPr/>
        </p:nvSpPr>
        <p:spPr>
          <a:xfrm>
            <a:off x="3311640" y="2816280"/>
            <a:ext cx="2197080" cy="1443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3995640" y="2682720"/>
            <a:ext cx="93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-</a:t>
            </a:r>
            <a:r>
              <a:rPr b="1" lang="en-US" sz="1100" spc="-1" strike="noStrike">
                <a:solidFill>
                  <a:srgbClr val="c00000"/>
                </a:solidFill>
                <a:latin typeface="Arial "/>
              </a:rPr>
              <a:t>6</a:t>
            </a: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2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20:40Z</dcterms:created>
  <dc:creator>ZimaSV</dc:creator>
  <dc:description/>
  <dc:language>en-US</dc:language>
  <cp:lastModifiedBy>Приходченко Наталья Сергеевна</cp:lastModifiedBy>
  <cp:lastPrinted>2014-05-21T06:20:28Z</cp:lastPrinted>
  <dcterms:modified xsi:type="dcterms:W3CDTF">2015-04-06T05:52:54Z</dcterms:modified>
  <cp:revision>1517</cp:revision>
  <dc:subject/>
  <dc:title>Слайд 1</dc:title>
</cp:coreProperties>
</file>